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0438-B89B-4140-BB44-ECEF1D1BC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79C7-537A-4490-AB7A-3CD96D33672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B78F4-950B-400B-BEAD-6D3A755C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691ED-A203-4CEE-8D99-AA43EB6C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FB8AE-64E4-43BC-93EB-BBE1E5A2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6EB04-0C15-45C7-9E80-785B859E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A879F-342D-43AD-B0B5-1CC2425A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14AA4-C2EE-494A-8EC1-795B9AFE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6596B-E075-43C6-8EB2-122AE3DC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E8E99-FC5F-4093-9113-A7B6F486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84589-40F3-424B-82C0-C42181AB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3210B-C430-4294-AEFA-BCE38A03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A6D44-B2FF-4522-803D-C876455B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28DC3-BF3B-4D4B-800B-3F2CC8E4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8BF4D-C8A6-4A53-90BD-82E885EC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2C133-971F-4A6E-8105-AB38CD9A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0977D-848B-42BE-84CB-480F45BC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810DF-7353-447A-A47C-99D6647C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2E5B0-9EE0-4B88-8AFD-0102CDC0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B37F4-AE3F-4E57-9042-F906499E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E6120-BABB-4BCD-AED2-4D292965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B0AD7-8B2B-4403-8721-57B9BA66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F9C4F-1AD2-4B47-AA1E-49478C7C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04910-5A27-41FA-B0C9-68C96405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3C498-42A6-426A-9032-BF53C6FC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A4C01-7CD2-4AC1-B41E-C6250897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83C00-5C13-453E-8AB3-7762F4D3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E7D27-A47B-48ED-B0E6-ECC2689A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5B67F-8652-49E0-BBF5-9FD26A94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A59C2-DEE8-4CF1-A327-3D5C8358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D0542-E8C4-46D2-911C-F46F4C59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9F4BA-0600-44C8-AF32-15D84962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BEF03-3D85-4F69-B8B6-8EA9F47F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0A172-4348-478C-B8CF-E352D920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8ABED-21E2-4B4F-8FB1-8048E3F2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0D938-60CD-41B5-BB21-C94F1870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D9F6-4707-4FF2-85FC-DE3A29AD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BA1E3-A8B5-4A6C-8862-3F2045AA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C0DFA-235A-4987-9818-49DAE7F6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C21F0-5F25-458E-9C86-874AC1AE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62BB6-21AB-4C94-8DA8-73C4E596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E4838-6BEB-498A-B392-B0C31C51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12CA61-6B9A-4EC3-B0F3-382222C5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FBDAD-7A2C-4B2A-86AB-D99E2663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B91AA-B101-4263-ADE0-1D7D10D5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35D73-3037-479C-9632-0C3584C8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774B3-2195-491D-9C66-182FF1D8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D9F8-8DAE-4298-8B70-63BEFA5C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18142-5653-4C35-8110-33A091B3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6EFAB-6FC4-4162-897D-B0421976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8ABBE-2632-4BB9-A144-1EF1578E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4554E-109A-4FC0-AACC-A44D264B5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072DD-DF21-4A02-9191-92DACA5F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AA7E643-5918-49C3-A144-25C3B0D92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C18FD20-B104-4E4A-A451-A720B944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6198230-802F-4F4D-8876-57A5F5EB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2020EA4-20FF-4ECF-B75B-B9B49DDC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92EC1D3-7D23-4AC6-AA22-7BA51E1C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9B1F-2FA5-4CA2-BDE6-1B454C8A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EE233DB-4B69-42C0-9BC2-328E8BA3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F7C5366-C40E-41C3-BEAE-2C4B8B0D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D3E0C40-A3D7-4C5E-92A5-D53CCFE1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AD3C7AD-7557-4CAB-A35F-E9F3C757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C872E44-9E46-438C-A74C-AA542C49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3727499-C297-4742-A2FA-DA3B9A26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E69FECE-A2CA-4777-89B5-F4BB227FC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BBCC80C-B06E-4931-9E37-6F521D96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988A913-688A-41D4-A23F-A4F4C68C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58B17FA-7D51-4C40-93C2-326F150B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F7F7-DEBB-4AB3-BC51-1F9AB071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25E5F90-74E3-411B-9A39-880B1EE2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C721D2A-AECC-4BD8-9C0A-2F2C73FF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8AAF72C-B6F5-45AC-836C-E119929A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44C0AC4-CF44-4E64-B4F1-6B67A1E0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C869D39-3436-412E-A97F-4BA60DA2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5377534-6C59-4DA7-9669-3184DE9C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956B6D8-7DCF-48B5-9F1F-9F275914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31C75A1-3F0C-4745-A822-C3FD9300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1FCDDCB-1006-40E3-91C2-83B6FBF1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C6CC17-03C4-4896-A977-A71F040A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854E-E20F-4C2F-A15B-BD7F3E61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A7A5F8-BD43-4665-B366-A5B9F9D1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0B43FC-72CD-4937-950E-98117751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8484FF-4E8F-428F-90B5-7ACEB076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99E7CD-434B-4FDB-89EA-8E30AC15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4313D2-1831-4F29-9FC5-ED2450E5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AEDF67-1FD7-4163-9230-421D8A53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934E95-D86A-4E4B-8EAF-CD0A30E4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FD263F-ABB5-4A37-89D8-2ABC7263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1F0064-74AA-44DC-B305-2942389E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677919-83DB-4CC2-98A2-139BCE20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7697-9C92-40F2-BC00-03F5B360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E21B32-E9FB-447F-BA42-A4C76C60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26D6DED-5149-4588-9169-07F89D45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985EC7A-565F-44F8-B2B5-1B943895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153AF80-A9B6-4B55-92EC-A7F2B762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DFB4986-D2B5-4F14-9307-2D250F4D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A5BC313-3BC2-4856-AF12-A05E1AAC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8C546D2-EB89-4F5E-B4FF-D4EE81E9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8315598-AF91-4DA7-B4F3-D9294662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3EEAE40-7840-4489-9E2B-BFD844C7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9EEBF86-6CDC-4822-9701-AD779BB8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1DBF-0C2E-4306-A1D9-D8FF15E1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1C7A2A9-4D37-4DB2-A129-C30FD3CC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E0FD47B-1926-4A67-AD58-376A22B4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6D73280-62B9-45A7-94E3-B78F2970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E033B-9D7A-471F-A0C2-D6584C8E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9123-5114-47F5-AB9E-F15B49C2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CDFE-21D3-441F-B242-8F488BEE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F5FC-45C0-4E1E-BF47-7D0D7E83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0506-A9A5-4F85-9A34-678B0602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0B9A-DD3B-4371-8F42-B8391CCA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7D711-C28A-4BB3-B6C3-8C140618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D6534-BE63-4FFF-8466-F71F25F5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76886-7691-4130-BED9-BE68543B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1CA5E-6C45-43EE-8ACD-F95E7A64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0815A-118C-4EB5-AFC9-95C31F25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57B94-E031-4A56-BB11-3714AAFE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E0B3F-A9FC-47F1-83B9-801AEC5D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7D908-EEBB-4E89-BFCE-1C9A7295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CB3F2-7E17-43CB-91C0-B4DC7C87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13C54-503F-4AEF-9876-5A7DAA4B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FD018-086F-4C22-A352-0D8038DC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93C3C-0261-4BE7-8C33-7BBF521A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EE1DC-300E-4790-AACC-3C45F51D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B7B9A-BA56-4B65-A09E-BF51D7A0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2FDDA-4093-4DD0-B888-C8245B61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F9E1F-0052-43C8-82A8-4163CDDC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937AB-57EC-4AC7-A872-E084FBD5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7B4B6-BF3E-4BFE-AA2E-B034411B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4F82C-077D-4437-9F06-48C7CD82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539AD-1C40-4D8E-84CA-A6F727F3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12C2C-720B-4733-AC1D-5AE38065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6E0D2-C125-42B4-9B8B-424F3F49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7075C-F456-450D-8F72-0C47149E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6D594-CDB6-4762-B4FF-EFE9583F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951F4-D2AE-46D6-9DF4-53DA6F42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9CB85-DC66-4AA3-A485-6FA25CF6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B876A-0F20-4AC9-8F30-3E38C3BA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3741E-F552-41C3-96C3-6C2F9F0B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72F94-0479-49E6-A760-A9A72580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7F28A-6D88-4E56-B8BB-4AD63341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043F2-11AA-4328-A7CC-7BFC0C9B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BB41E-5602-43F6-90E2-6DF70DFA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578EF-6CAE-41BC-8C98-D135420A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E5D1A-1236-4A24-A9C7-3BE1EC6D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2B7DE-D46B-479A-B8DA-4D252BD0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9704E-EEAE-462A-AB3A-BE151514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3E493-B43F-41E5-8991-ED389B10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2D1E8-249F-4ED6-8193-F7AEE7C9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97D94-EF5E-4DAE-ADF9-BB79BC92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12CE9-A1F7-4435-90BB-608D2A87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462B2-C0C5-48B9-BD0B-3866EB1D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5BAD8-470B-4C9E-9F97-86C888B1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13D42-F7B1-469B-8A3F-0D114932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EFAE8-C3DB-4891-AB35-1DA57DBB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E7613-8CCB-45DE-84F1-740BF185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97905-BC2D-4638-9316-8A80E526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8C629-20D6-49EE-BE3A-5B06EA97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9FE66-1855-4ACE-8B63-A947326C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25A3C-6119-4833-9B6B-667D8EBD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1FCAA-9A56-44C4-B0D4-B3987020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59734-2A6D-4CBD-94A5-4AC6061C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9B3E8-A14B-4218-93C5-AD5B0B9C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AF45E-3262-4468-9434-693B2341F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E0937-9FF8-4D7B-BC11-3682C931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EEB85-2127-4DDA-AE5E-06E3B193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869A7-5A5F-4F51-AEC2-B5D85C85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5BEF0-8C7B-48DC-83CE-33B19D2A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6B72A-29C7-4B3F-A9CB-B6DB6C3E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616DD-6BBE-4B47-891C-71E1A224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98516-793A-42B2-90F6-E7857674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6B7F1-60D6-442D-A7EA-49CD8437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ED129-0661-4A27-9F67-824FF33C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97662-6A97-46EE-B0D7-61DF1B22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BED98-51E8-4F4B-A743-F0DB532B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F9289-4538-41D4-AD56-7021183C3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6ECA0-AEBB-4ABB-8B49-75E25EBD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7894D-70C2-44DF-8BCF-F080D51F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38E6D-C949-4A76-BFF8-17357956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41B0D-DCD8-4B63-9467-3AA410BA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95417-15C1-47C0-928D-D9D57BBA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F9960-FBE0-42D1-8DFD-BB8B8E59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23F0E-65A5-491F-8DA7-5348A88E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BFFBB-7942-47E7-B275-178D6782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338D7-8BF1-4110-8822-F5F3EF44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03387-5EB7-4E13-AD75-73C9643A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91D23-BE22-44E2-B8D0-21B25F30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DF506-B31E-4830-935F-0ACCB735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D7124-ABB5-4C36-AC8A-5B81FDD0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1D565-91DC-42C0-9B06-3E40CAB6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A9F56-527D-4320-A31F-63CC1A4A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51AEB-BD59-4474-873B-CB5372D3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581B6-7571-4BCF-9ABC-5FF897F8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B38A-372B-4AEE-9CE3-A28E7E03A4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2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29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0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C846-DFC3-4B7A-BB77-8CA88510F1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9307-06E3-46F5-962A-11780AABD4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3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3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36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0936-F65C-43A6-BA2E-3DF273BFB3E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37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D875-93E0-4D33-9BAD-3B9560628C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dt" idx="3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ftr" idx="39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Num" idx="40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D95D-567D-4637-B048-B4D84BD4B1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dt" idx="41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ftr" idx="42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4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4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4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9434-0D86-4CA0-B921-18DDEBB85B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sldNum" idx="46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58AD-6619-4780-A905-F5ACBEDC18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dt" idx="4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ftr" idx="4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4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DB70-483A-48A3-87B9-3EEAB2F92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B17C-6A27-4577-B06D-C3F8F925EE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A28D-A0EB-41CE-BA91-2F687E4A37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27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348D-4BEC-4BCD-9415-D9E67CE07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1523-7715-4EE9-8249-9869AA57BA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1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D014-2496-42DF-81E6-2A38BDC937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2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dt" idx="2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4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7E47-4922-4566-BC3E-08E9E1C26C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5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7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1CDC-A985-4BBD-A3D6-71A3CF7A60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El Cat</a:t>
            </a:r>
            <a:r>
              <a:rPr b="1" lang="en-US" sz="4800" spc="-1" strike="noStrike">
                <a:solidFill>
                  <a:srgbClr val="ffffcc"/>
                </a:solidFill>
                <a:latin typeface="Tahoma"/>
                <a:ea typeface="Arial"/>
              </a:rPr>
              <a:t>àlogo de Rop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esta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 primave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915080" y="1904760"/>
            <a:ext cx="3930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elita lleva un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haquet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egra, u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olla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lanco, un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amiset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lanca y un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ulser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g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elita lleva rop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ómod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d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l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ébora lleva u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esti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negro y blanco, y u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intur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blan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ébora lleva rop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legan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 l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1" name="il_fi" descr="minkpink3"/>
          <p:cNvPicPr/>
          <p:nvPr/>
        </p:nvPicPr>
        <p:blipFill>
          <a:blip r:embed="rId1"/>
          <a:stretch/>
        </p:blipFill>
        <p:spPr>
          <a:xfrm>
            <a:off x="1981080" y="1143000"/>
            <a:ext cx="2097360" cy="3124080"/>
          </a:xfrm>
          <a:prstGeom prst="rect">
            <a:avLst/>
          </a:prstGeom>
          <a:ln w="0">
            <a:noFill/>
          </a:ln>
        </p:spPr>
      </p:pic>
      <p:pic>
        <p:nvPicPr>
          <p:cNvPr id="842" name="il_fi" descr="20157-fall-clothing-wholesale-long-sleeve-shirt-1"/>
          <p:cNvPicPr/>
          <p:nvPr/>
        </p:nvPicPr>
        <p:blipFill>
          <a:blip r:embed="rId2"/>
          <a:stretch/>
        </p:blipFill>
        <p:spPr>
          <a:xfrm>
            <a:off x="152280" y="4191120"/>
            <a:ext cx="1981440" cy="2324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9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l Veran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844" name="il_fi" descr="countryroadw20106"/>
          <p:cNvPicPr/>
          <p:nvPr/>
        </p:nvPicPr>
        <p:blipFill>
          <a:blip r:embed="rId1"/>
          <a:stretch/>
        </p:blipFill>
        <p:spPr>
          <a:xfrm>
            <a:off x="0" y="3200400"/>
            <a:ext cx="2590920" cy="365760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6" descr="http://t0.gstatic.com/images?q=tbn:ANd9GcQ6tYse4BaN-PbOKrHBDZEcwWSXhPjrWyafr_g6hsQSVk1wRgsI&amp;t=1"/>
          <p:cNvPicPr/>
          <p:nvPr/>
        </p:nvPicPr>
        <p:blipFill>
          <a:blip r:embed="rId2"/>
          <a:stretch/>
        </p:blipFill>
        <p:spPr>
          <a:xfrm>
            <a:off x="2590920" y="0"/>
            <a:ext cx="2286000" cy="3962520"/>
          </a:xfrm>
          <a:prstGeom prst="rect">
            <a:avLst/>
          </a:prstGeom>
          <a:ln w="0">
            <a:noFill/>
          </a:ln>
        </p:spPr>
      </p:pic>
      <p:sp>
        <p:nvSpPr>
          <p:cNvPr id="846" name="TextBox 7"/>
          <p:cNvSpPr/>
          <p:nvPr/>
        </p:nvSpPr>
        <p:spPr>
          <a:xfrm>
            <a:off x="5029200" y="1523880"/>
            <a:ext cx="4114800" cy="75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Abella llev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na camis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blanca y negr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na fald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azul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, unos are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gris, 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nas gafas de so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marro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bella lleva rop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cómod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de algod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, 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in man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licia llev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n vesti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azul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n cintur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ó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negro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una pulser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negr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un bols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gris, 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unos zapato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negros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Elicia lleva rop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legan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 sed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876920" y="228600"/>
            <a:ext cx="39592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l Otoñ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4876920" y="1447560"/>
            <a:ext cx="411480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litos llev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 abrig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gro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as gaf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egro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os ten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zul y blanco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a sudade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egra,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os blue je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egro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litos lleva rop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sual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úl llev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a chaque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zul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a cami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ri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os ten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egro y blanco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 gor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zul, 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os blue je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zul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úl lleva rop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s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49" name="Picture 2" descr="http://www.christianheels.com/wp-content/uploads/2010/11/stussy-2010-fall-collection-0.jpg"/>
          <p:cNvPicPr/>
          <p:nvPr/>
        </p:nvPicPr>
        <p:blipFill>
          <a:blip r:embed="rId2"/>
          <a:stretch/>
        </p:blipFill>
        <p:spPr>
          <a:xfrm>
            <a:off x="152280" y="152280"/>
            <a:ext cx="4191120" cy="301644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4" descr="http://www.christianheels.com/wp-content/uploads/2010/11/stussy-2010-fall-collection-141.jpg"/>
          <p:cNvPicPr/>
          <p:nvPr/>
        </p:nvPicPr>
        <p:blipFill>
          <a:blip r:embed="rId3"/>
          <a:stretch/>
        </p:blipFill>
        <p:spPr>
          <a:xfrm>
            <a:off x="152280" y="3352680"/>
            <a:ext cx="4191120" cy="30481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l Inviern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724280" y="4495680"/>
            <a:ext cx="4608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men llev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a chaque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laco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 bols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i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as bot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is, 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a gor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egro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men lleva rop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legan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 la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s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uardo llev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a bufan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ri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os guant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ron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a gor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ron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a camis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ja, 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os pantal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egro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uardo lleva rop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ómo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 algod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 nyl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54" name="Picture 2" descr="http://img01.taobaocdn.com/imgextra/i1/11020910/T2X84rXbFaXXXXXXXX_!!11020910.jpg"/>
          <p:cNvPicPr/>
          <p:nvPr/>
        </p:nvPicPr>
        <p:blipFill>
          <a:blip r:embed="rId1"/>
          <a:stretch/>
        </p:blipFill>
        <p:spPr>
          <a:xfrm>
            <a:off x="152280" y="1523880"/>
            <a:ext cx="2210040" cy="289584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4" descr="http://www.dreamstime.com/young-child-bundled-up-in-warm-winter-clothing-thumb6546607.jpg"/>
          <p:cNvPicPr/>
          <p:nvPr/>
        </p:nvPicPr>
        <p:blipFill>
          <a:blip r:embed="rId2"/>
          <a:stretch/>
        </p:blipFill>
        <p:spPr>
          <a:xfrm>
            <a:off x="2362320" y="3124080"/>
            <a:ext cx="236196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3:54:46Z</dcterms:created>
  <dc:creator>bourquejus</dc:creator>
  <dc:description/>
  <dc:language>en-US</dc:language>
  <cp:lastModifiedBy>dalyale</cp:lastModifiedBy>
  <dcterms:modified xsi:type="dcterms:W3CDTF">2011-01-28T13:14:59Z</dcterms:modified>
  <cp:revision>33</cp:revision>
  <dc:subject/>
  <dc:title>El Catàlogo de Ropa</dc:title>
</cp:coreProperties>
</file>